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D3C-1A5E-417E-BC70-040A0C7D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B43-8934-4946-BF32-50C26CDE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246-BB4C-4D0E-9887-CCC92C74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515-97BC-4A8E-BA02-5EA96B97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DB4-CCF7-484D-A0C2-C64BED74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C83-47D7-4628-B04D-9BAEF114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08D-A52C-4B1E-A9D9-B0F4A27F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858-387E-44A9-89D7-A4FBA82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216-5442-494E-BD77-BF5FBF2F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DEA-1A65-4634-9BFE-9AED455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83A-BEB6-465F-AD94-00519D4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E57-7803-45BD-80C8-AA723D71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368-CA66-4B29-994B-001D04ABAD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6.3 Involuntary and Voluntary Childles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1. Phys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Side effects from fertilit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417760"/>
            <a:ext cx="2700360" cy="25239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6480" y="4565520"/>
            <a:ext cx="1670040" cy="46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2843280" y="246528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5365800" y="2465280"/>
            <a:ext cx="2206440" cy="245916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5"/>
          <a:stretch/>
        </p:blipFill>
        <p:spPr>
          <a:xfrm>
            <a:off x="5241960" y="4889520"/>
            <a:ext cx="2878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2. Objective Bu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49320" y="4687920"/>
            <a:ext cx="33224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788000" y="1343160"/>
            <a:ext cx="3047760" cy="33462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4" descr=""/>
          <p:cNvPicPr/>
          <p:nvPr/>
        </p:nvPicPr>
        <p:blipFill>
          <a:blip r:embed="rId4"/>
          <a:stretch/>
        </p:blipFill>
        <p:spPr>
          <a:xfrm>
            <a:off x="4968720" y="4687920"/>
            <a:ext cx="2687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2. Objective Bu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Couples must have intercourse, or have reproductive treatments at a specific date each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Also organize the rest of their lives around thes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Working women had to use all of their holidays for one year for one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3.  Subjective Psychological S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Emotional relationship between partners i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reatment often results in personal interests being given up entirely, which leads to stress, anxiety an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Feelings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G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Sadness/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Loss of fulfilling a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Anger /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Overcoming Infer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Over to you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“ </a:t>
            </a: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Children are the cloth of the body.  Without Children, you are nak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What does this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his means that a man’s wealth is measured, in part, by the number of children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A woman’s value to her husband is determined by her ability to bea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o some people a marriage without children is seen as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Occurs when a couple or individual wants to have children and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his state is generally the result of one of two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4827600" y="1517760"/>
            <a:ext cx="467028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8360" y="1638360"/>
            <a:ext cx="82072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40-50% of infertility problems is a result of a physic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852640"/>
            <a:ext cx="2987640" cy="400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285768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845320" y="3978360"/>
            <a:ext cx="3298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3057480" cy="361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057480" y="2421000"/>
            <a:ext cx="2857680" cy="361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5915160" y="2421000"/>
            <a:ext cx="3228840" cy="361944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4"/>
          <a:stretch/>
        </p:blipFill>
        <p:spPr>
          <a:xfrm>
            <a:off x="5834160" y="5254560"/>
            <a:ext cx="2792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1999 German Sociolog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52 interviews with women and men who had undergone treatments for in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Burden of undergoing these treatments can be divided into thre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Jason</cp:lastModifiedBy>
  <dcterms:modified xsi:type="dcterms:W3CDTF">2010-12-15T05:16:22Z</dcterms:modified>
  <cp:revision>45</cp:revision>
  <dc:subject/>
  <dc:title>Diapositiva 1</dc:title>
</cp:coreProperties>
</file>